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04025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040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5"/>
          </p:nvPr>
        </p:nvSpPr>
        <p:spPr>
          <a:xfrm>
            <a:off x="3854160" y="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20520" y="745920"/>
            <a:ext cx="4965480" cy="372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6"/>
          </p:nvPr>
        </p:nvSpPr>
        <p:spPr>
          <a:xfrm>
            <a:off x="-3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7"/>
          </p:nvPr>
        </p:nvSpPr>
        <p:spPr>
          <a:xfrm>
            <a:off x="385416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D657E-ECD1-4F32-9C6B-D6CF01D767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AD95-A82C-41AB-A0B0-173CE3865D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18E00-36C0-42E6-8DEA-8B2F036974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ED895-B6A4-4DBB-AB1A-4919724E51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920880" y="746280"/>
            <a:ext cx="4965480" cy="372564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0760" y="4721400"/>
            <a:ext cx="5443560" cy="44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lide Number Placeholder 3"/>
          <p:cNvSpPr/>
          <p:nvPr/>
        </p:nvSpPr>
        <p:spPr>
          <a:xfrm>
            <a:off x="3854520" y="9441000"/>
            <a:ext cx="294948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DB58-66E1-4D9A-9838-FA07EDDCF3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EE0D5-08E6-4214-A479-20D601E24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AC16D-40EE-4303-AA3D-6FC482FB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E908-5729-4397-ADDD-6B4C864E43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51D68-4547-47BE-8C1C-6CBF7E0311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6CD65F-8C34-4880-A268-15C30FCE6E6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E5ED61-FE7B-4B75-A790-D54C0A11840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24F59B-73B1-48D1-926D-BA1A45A236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C545DD-12B3-47E7-8390-A4C5F55FF97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D11D19-F3E7-4D1A-8835-7C35957B5CD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31194C-D7E0-4615-B8FE-CBF4B71AA15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21DE4B-1675-4539-AEFB-AAB966727C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1217-417F-496E-9B48-18D54A705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BC5DE9-DAAF-43D3-B266-00E49C5A7F5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80B2B0-998A-4DA6-AA3A-83380FB7579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779236-C7D8-403B-900F-908649C73E2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4F80BF-DAF9-44C1-9EFF-C181908093A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19700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772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A4F04A-86AF-44EE-84B6-A65B99EE135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3100-2138-4AF6-9BBB-4C7AA117F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4F79-2BDF-4A18-A2E2-3147DB210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4FD9-A773-4665-8C23-1DFED42FE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327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75C32-B7D5-48C8-8A57-F2FF9974B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D6D5-DA19-4944-B73C-726FDF340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772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BDB0-0467-40C4-A402-A5C2FFC27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58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19700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772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FE494-83DE-490C-A59D-87CCE5743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37962-B640-489B-84E4-E60DE2DB08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1637ED0A-C640-4DC0-8C19-2F5CF655BAF3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9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4"/>
          <p:cNvSpPr/>
          <p:nvPr/>
        </p:nvSpPr>
        <p:spPr>
          <a:xfrm>
            <a:off x="-36360" y="1052640"/>
            <a:ext cx="9180360" cy="0"/>
          </a:xfrm>
          <a:prstGeom prst="line">
            <a:avLst/>
          </a:prstGeom>
          <a:ln w="38160">
            <a:solidFill>
              <a:srgbClr val="1e7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5"/>
          <p:cNvSpPr/>
          <p:nvPr/>
        </p:nvSpPr>
        <p:spPr>
          <a:xfrm>
            <a:off x="1440" y="6165720"/>
            <a:ext cx="9142560" cy="76356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7"/>
          <p:cNvSpPr/>
          <p:nvPr/>
        </p:nvSpPr>
        <p:spPr>
          <a:xfrm>
            <a:off x="250920" y="6381720"/>
            <a:ext cx="415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FE47B231-45BE-4D44-AEA1-B5F77E73550E}" type="slidenum">
              <a:rPr b="1" lang="ar-SA" sz="1700" spc="-1" strike="noStrike">
                <a:solidFill>
                  <a:srgbClr val="72bbe8"/>
                </a:solidFill>
                <a:latin typeface="Arial Narrow"/>
                <a:ea typeface="Arial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  <a:ea typeface="Arial"/>
              </a:rPr>
              <a:t> </a:t>
            </a:r>
            <a:r>
              <a:rPr b="1" lang="en-US" sz="2400" spc="-1" strike="noStrike" baseline="14000">
                <a:solidFill>
                  <a:srgbClr val="ffffff"/>
                </a:solidFill>
                <a:latin typeface="Arial Narrow"/>
                <a:ea typeface="Arial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7" descr=""/>
          <p:cNvPicPr/>
          <p:nvPr/>
        </p:nvPicPr>
        <p:blipFill>
          <a:blip r:embed="rId2"/>
          <a:stretch/>
        </p:blipFill>
        <p:spPr>
          <a:xfrm>
            <a:off x="7596360" y="6292800"/>
            <a:ext cx="1520640" cy="52092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13"/>
          <p:cNvSpPr/>
          <p:nvPr/>
        </p:nvSpPr>
        <p:spPr>
          <a:xfrm>
            <a:off x="755640" y="6391440"/>
            <a:ext cx="619272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EVD PREPAREDNESS AND RESPONSE TRAINING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 Narrow"/>
                <a:ea typeface="Arial"/>
              </a:rPr>
              <a:t>Rapid Response Tea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648BB-7977-417F-BFC9-7B03BE0635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1440" y="2421000"/>
            <a:ext cx="9141120" cy="167328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  <a:ea typeface="Verdana"/>
              </a:rPr>
              <a:t>Rapid Response Tea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General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8280" y="1844640"/>
            <a:ext cx="8217000" cy="29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esentation describes the composition and role of functional, technical multi-disciplinary teams of experts (Rapid Response Teams) that should be deployed in case of emergencie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6840" y="1341360"/>
            <a:ext cx="8147160" cy="439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the end of the session you will be able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lain the importance of having fully operational Rapid Response Teams (RRTs) able to act immediately once a suspicious case is repor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scribe the composition and terms of reference of the RR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the activities  of the RR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764640"/>
            <a:ext cx="822960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RT is a group of experienced experts that are on stand-by and can reach any part of the country within 24 hours. Their actions will help to contain/stop an outbreak early on. They will survey the first case(s), provide health care in a central facility, engage with the community and carry out infection, prevention and control measures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Composition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24000" y="1236240"/>
            <a:ext cx="4032000" cy="356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psychosocial support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data 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media expe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Content Placeholder 2"/>
          <p:cNvSpPr/>
          <p:nvPr/>
        </p:nvSpPr>
        <p:spPr>
          <a:xfrm>
            <a:off x="4356000" y="1236600"/>
            <a:ext cx="4537080" cy="327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b0f0"/>
                </a:solidFill>
                <a:latin typeface="Arial"/>
                <a:ea typeface="Arial"/>
              </a:rPr>
              <a:t>Sub-Nation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2 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aboratory techn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mob/anthropologi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2060"/>
                </a:solidFill>
                <a:latin typeface="Arial"/>
                <a:ea typeface="Arial"/>
              </a:rPr>
              <a:t>1 logistici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social worker, psychiatric nur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data cle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7 burial staff (1 burial tea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2060"/>
                </a:solidFill>
                <a:latin typeface="Arial"/>
                <a:ea typeface="Arial"/>
              </a:rPr>
              <a:t>1 local media pers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Content Placeholder 2"/>
          <p:cNvSpPr/>
          <p:nvPr/>
        </p:nvSpPr>
        <p:spPr>
          <a:xfrm>
            <a:off x="611280" y="5157720"/>
            <a:ext cx="8208720" cy="89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The number of subnational teams depends on the level of risk,</a:t>
            </a:r>
            <a:br>
              <a:rPr sz="2000"/>
            </a:br>
            <a:r>
              <a:rPr b="0" i="1" lang="en-US" sz="2000" spc="-1" strike="noStrike">
                <a:solidFill>
                  <a:srgbClr val="002060"/>
                </a:solidFill>
                <a:latin typeface="Arial"/>
              </a:rPr>
              <a:t>human resource availability and geographic lo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5720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et up one at National level and at least one at subnat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medical staff on WHO-AFRO module applied in Liberia, including mock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Mapping of health facilities and identify potential ETC si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Train Community volunteers and Epis in subnational RRT (24h hotlin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Financial support from ET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800" spc="-1" strike="noStrike">
                <a:solidFill>
                  <a:srgbClr val="000000"/>
                </a:solidFill>
                <a:latin typeface="Arial"/>
              </a:rPr>
              <a:t>Simulation exerci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1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250920" y="1052640"/>
            <a:ext cx="851832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2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457200" y="1052640"/>
            <a:ext cx="8534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e appropriate strategies and control measures including risk communications activit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pare detailed investigation repor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ibute to the final evaluation of the outbreak respon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vestigate rumors, reported outbreaks, and other public health emer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ordinate rapid response actions wi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rtners and other agenc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itiate the implementation of the propos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rol measures including capacity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il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21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RRTs: Role (3)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49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W" sz="5400" spc="-1" strike="noStrike">
                <a:solidFill>
                  <a:srgbClr val="0000ff"/>
                </a:solidFill>
                <a:latin typeface="Arial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14:06:57Z</dcterms:created>
  <dc:creator>Etienne M Minkoulou</dc:creator>
  <dc:description/>
  <dc:language>en-US</dc:language>
  <cp:lastModifiedBy>Gomez, Paula</cp:lastModifiedBy>
  <cp:lastPrinted>2013-10-01T07:19:12Z</cp:lastPrinted>
  <dcterms:modified xsi:type="dcterms:W3CDTF">2014-12-15T13:27:53Z</dcterms:modified>
  <cp:revision>145</cp:revision>
  <dc:subject/>
  <dc:title>DPC Training and Technical Update</dc:title>
</cp:coreProperties>
</file>